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2001theme.wav" ContentType="audio/x-wav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C75-EBB5-402E-82A0-9D5A718F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12E-FFDD-4E04-ACEA-C782187F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695-C7E2-43EB-A94B-4C7D2A58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5DA-A396-403A-B2B5-AE5BA802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86D-1763-43FA-A92A-E7EBAD0D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AB7-D28F-48BD-A418-1EFA984D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2E8-D4DA-4A68-A57C-8D907B9A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098-EDC5-4EF1-8581-DA062B50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5EE7-E0DC-4E71-AC67-997F5B88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D83-D077-4085-974E-EAE32FA0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804-0A6A-4044-AFBC-B88B9273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72A-0957-4E27-AC69-03846C25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363C-5C36-45D1-9FAD-A484DF0A5763}" type="datetime">
              <a:rPr b="0" lang="pt-PT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12A7-4226-4F66-B1D9-2E61957CB49C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2001them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Proprietário-de-HP\Ambiente de trabalho\Space Shuttle\Slid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2001them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Documents and Settings\Proprietário-de-HP\Ambiente de trabalho\Space Shuttle\Slide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Documents and Settings\Proprietário-de-HP\Ambiente de trabalho\Space Shuttle\Slide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Documents and Settings\Proprietário-de-HP\Ambiente de trabalho\Space Shuttle\Slide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Documents and Settings\Proprietário-de-HP\Ambiente de trabalho\Space Shuttle\Slide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Proprietário-de-HP\Ambiente de trabalho\Space Shuttle\Slide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6143760" y="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kes Michigan, Huron &amp; 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Proprietário-de-HP\Ambiente de trabalho\Space Shuttle\Slide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6357960" y="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lorida and Gulf of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Documents and Settings\Proprietário-de-HP\Ambiente de trabalho\Space Shuttle\Slide1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739040" y="0"/>
            <a:ext cx="43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alibri"/>
              </a:rPr>
              <a:t>Nile River delta, Red Sea and Sinai Penins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Documents and Settings\Proprietário-de-HP\Ambiente de trabalho\Space Shuttle\Slide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Proprietário-de-HP\Ambiente de trabalho\Space Shuttle\Slide1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Documents and Settings\Proprietário-de-HP\Ambiente de trabalho\Space Shuttle\Slide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Proprietário-de-HP\Ambiente de trabalho\Space Shuttle\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Documents and Settings\Proprietário-de-HP\Ambiente de trabalho\Space Shuttle\Slide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Documents and Settings\Proprietário-de-HP\Ambiente de trabalho\Space Shuttle\Slide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Proprietário-de-HP\Ambiente de trabalho\Space Shuttle\Slide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Documents and Settings\Proprietário-de-HP\Ambiente de trabalho\Space Shuttle\Slide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Proprietário-de-HP\Ambiente de trabalho\Space Shuttle\Slide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Documents and Settings\Proprietário-de-HP\Ambiente de trabalho\Space Shuttle\Slide2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Proprietário-de-HP\Ambiente de trabalho\Space Shuttle\Slide2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Documents and Settings\Proprietário-de-HP\Ambiente de trabalho\Space Shuttle\Slide2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Proprietário-de-HP\Ambiente de trabalho\Space Shuttle\Slide2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Documents and Settings\Proprietário-de-HP\Ambiente de trabalho\Space Shuttle\Slide2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Proprietário-de-HP\Ambiente de trabalho\Space Shuttle\Slide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Proprietário-de-HP\Ambiente de trabalho\Space Shuttle\Slide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Proprietário-de-HP\Ambiente de trabalho\Space Shuttle\Slide3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Documents and Settings\Proprietário-de-HP\Ambiente de trabalho\Space Shuttle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Documents and Settings\Proprietário-de-HP\Ambiente de trabalho\Space Shuttle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Proprietário-de-HP\Ambiente de trabalho\Space Shuttle\Slide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Proprietário-de-HP\Ambiente de trabalho\Space Shuttle\Slide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Proprietário-de-HP\Ambiente de trabalho\Space Shuttle\Slide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Documents and Settings\Proprietário-de-HP\Ambiente de trabalho\Space Shuttle\Slide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6:03:51Z</dcterms:created>
  <dc:creator>Proprietário-de-HP</dc:creator>
  <dc:description/>
  <dc:language>en-US</dc:language>
  <cp:lastModifiedBy>Ed Marzola</cp:lastModifiedBy>
  <dcterms:modified xsi:type="dcterms:W3CDTF">2009-01-13T01:22:46Z</dcterms:modified>
  <cp:revision>12</cp:revision>
  <dc:subject/>
  <dc:title>Slide 1</dc:title>
</cp:coreProperties>
</file>