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2001theme.wav" ContentType="audio/x-wav"/>
  <Override PartName="/ppt/media/image1.jpeg" ContentType="image/jpeg"/>
  <Override PartName="/ppt/media/image22.jpeg" ContentType="image/jpeg"/>
  <Override PartName="/ppt/media/image2.jpeg" ContentType="image/jpeg"/>
  <Override PartName="/ppt/media/image23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5C81-B68A-43DE-A867-C546A0D27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E46D-2702-4855-8E94-2168BB80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9D77-0200-4132-8973-D007867C6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C6D1-2D23-41FC-8633-098AAFB9E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2CB9-3E26-47B1-B4C6-55D904D3F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1395-FF71-442D-871A-79DFB11C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FC99B-2BC2-42A7-8832-261FD54E7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B003-92EA-46BD-BDF3-9238D58DD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A34D-458E-4812-9EAC-47598D0B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C36B-611D-4E75-9CDF-C7E2C8F3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9CD9-1478-471A-BF7F-59B081C1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EA46-3FDD-472C-A5E7-4FE2F3C3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B0660-8D89-4E5D-A030-1B57EF9A3461}" type="datetime">
              <a:rPr b="0" lang="pt-PT" sz="1200" spc="-1" strike="noStrike">
                <a:solidFill>
                  <a:srgbClr val="898989"/>
                </a:solidFill>
                <a:latin typeface="Calibri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FA7BB-ACC3-4CFA-BD33-F569D301C217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2001theme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C:\Documents and Settings\Proprietário-de-HP\Ambiente de trabalho\Space Shuttle\Slide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  <p:sndAc>
      <p:stSnd>
        <p:snd r:embed="rId2" name="2001them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C:\Documents and Settings\Proprietário-de-HP\Ambiente de trabalho\Space Shuttle\Slide1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C:\Documents and Settings\Proprietário-de-HP\Ambiente de trabalho\Space Shuttle\Slide1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Documents and Settings\Proprietário-de-HP\Ambiente de trabalho\Space Shuttle\Slide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C:\Documents and Settings\Proprietário-de-HP\Ambiente de trabalho\Space Shuttle\Slide1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C:\Documents and Settings\Proprietário-de-HP\Ambiente de trabalho\Space Shuttle\Slide1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2"/>
          <p:cNvSpPr/>
          <p:nvPr/>
        </p:nvSpPr>
        <p:spPr>
          <a:xfrm>
            <a:off x="6143760" y="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Lakes Michigan, Huron &amp; E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Documents and Settings\Proprietário-de-HP\Ambiente de trabalho\Space Shuttle\Slide1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6357960" y="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lorida and Gulf of Mex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C:\Documents and Settings\Proprietário-de-HP\Ambiente de trabalho\Space Shuttle\Slide1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4739040" y="0"/>
            <a:ext cx="43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Calibri"/>
              </a:rPr>
              <a:t>Nile River delta, Red Sea and Sinai Peninsu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C:\Documents and Settings\Proprietário-de-HP\Ambiente de trabalho\Space Shuttle\Slide1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3" descr="C:\Documents and Settings\Proprietário-de-HP\Ambiente de trabalho\Space Shuttle\Slide1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3" descr="C:\Documents and Settings\Proprietário-de-HP\Ambiente de trabalho\Space Shuttle\Slide1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:\Documents and Settings\Proprietário-de-HP\Ambiente de trabalho\Space Shuttle\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C:\Documents and Settings\Proprietário-de-HP\Ambiente de trabalho\Space Shuttle\Slide2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C:\Documents and Settings\Proprietário-de-HP\Ambiente de trabalho\Space Shuttle\Slide2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C:\Documents and Settings\Proprietário-de-HP\Ambiente de trabalho\Space Shuttle\Slide2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C:\Documents and Settings\Proprietário-de-HP\Ambiente de trabalho\Space Shuttle\Slide2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3" descr="C:\Documents and Settings\Proprietário-de-HP\Ambiente de trabalho\Space Shuttle\Slide2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C:\Documents and Settings\Proprietário-de-HP\Ambiente de trabalho\Space Shuttle\Slide2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3" descr="C:\Documents and Settings\Proprietário-de-HP\Ambiente de trabalho\Space Shuttle\Slide2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C:\Documents and Settings\Proprietário-de-HP\Ambiente de trabalho\Space Shuttle\Slide2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3" descr="C:\Documents and Settings\Proprietário-de-HP\Ambiente de trabalho\Space Shuttle\Slide2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3" descr="C:\Documents and Settings\Proprietário-de-HP\Ambiente de trabalho\Space Shuttle\Slide2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C:\Documents and Settings\Proprietário-de-HP\Ambiente de trabalho\Space Shuttle\Slide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C:\Documents and Settings\Proprietário-de-HP\Ambiente de trabalho\Space Shuttle\Slide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C:\Documents and Settings\Proprietário-de-HP\Ambiente de trabalho\Space Shuttle\Slide3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C:\Documents and Settings\Proprietário-de-HP\Ambiente de trabalho\Space Shuttle\Slide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C:\Documents and Settings\Proprietário-de-HP\Ambiente de trabalho\Space Shuttle\Slide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Documents and Settings\Proprietário-de-HP\Ambiente de trabalho\Space Shuttle\Slide6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C:\Documents and Settings\Proprietário-de-HP\Ambiente de trabalho\Space Shuttle\Slide7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C:\Documents and Settings\Proprietário-de-HP\Ambiente de trabalho\Space Shuttle\Slide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C:\Documents and Settings\Proprietário-de-HP\Ambiente de trabalho\Space Shuttle\Slide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1T16:03:51Z</dcterms:created>
  <dc:creator>Proprietário-de-HP</dc:creator>
  <dc:description/>
  <dc:language>en-US</dc:language>
  <cp:lastModifiedBy>Ed Marzola</cp:lastModifiedBy>
  <dcterms:modified xsi:type="dcterms:W3CDTF">2009-01-13T01:22:46Z</dcterms:modified>
  <cp:revision>12</cp:revision>
  <dc:subject/>
  <dc:title>Slide 1</dc:title>
</cp:coreProperties>
</file>