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2001theme.wav" ContentType="audio/x-wav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36F-4F6D-46DE-9817-BDC6B9A4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F1D-2FAF-43E7-B49A-A0AADF98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4F9-3038-4637-86A7-5DBA3F75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EB3-B3E6-4BDD-9DE3-4B555DF9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3E2-0404-4BD6-B9D0-FF59FDD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5F4-CC70-4E8D-B5B7-418BFC74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198-A567-4965-86BA-80B043C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4A5-8D37-4D86-9F0F-F2AED0F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1DB-20D6-469A-B1BD-5EB20B78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014-04EE-4B86-BBBC-F6B944F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F9A-9D67-41B9-AEB8-ACFC4E74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842-62AC-4DDA-B1A6-2FF273AB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0D70-2E88-4EBB-8E75-B49489D74AA7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8A57-FA04-4B2D-949D-4941FE8AC16F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Proprietário-de-HP\Ambiente de trabalho\Space Shuttle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2001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Proprietário-de-HP\Ambiente de trabalho\Space Shuttle\Slide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Proprietário-de-HP\Ambiente de trabalho\Space Shuttle\Slide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Proprietário-de-HP\Ambiente de trabalho\Space Shuttle\Slide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Proprietário-de-HP\Ambiente de trabalho\Space Shuttle\Slide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Proprietário-de-HP\Ambiente de trabalho\Space Shuttle\Slide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614376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kes Michigan, Huron &amp; 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Proprietário-de-HP\Ambiente de trabalho\Space Shuttle\Slide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6357960" y="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lorida and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Proprietário-de-HP\Ambiente de trabalho\Space Shuttle\Slide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739040" y="0"/>
            <a:ext cx="43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alibri"/>
              </a:rPr>
              <a:t>Nile River delta, Red Sea and Sinai 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Proprietário-de-HP\Ambiente de trabalho\Space Shuttle\Slide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Proprietário-de-HP\Ambiente de trabalho\Space Shuttle\Slide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Proprietário-de-HP\Ambiente de trabalho\Space Shuttle\Slide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Proprietário-de-HP\Ambiente de trabalho\Space Shuttle\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Proprietário-de-HP\Ambiente de trabalho\Space Shuttle\Slide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Proprietário-de-HP\Ambiente de trabalho\Space Shuttle\Slide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Proprietário-de-HP\Ambiente de trabalho\Space Shuttle\Slide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Proprietário-de-HP\Ambiente de trabalho\Space Shuttle\Slide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Proprietário-de-HP\Ambiente de trabalho\Space Shuttle\Slide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Documents and Settings\Proprietário-de-HP\Ambiente de trabalho\Space Shuttle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Proprietário-de-HP\Ambiente de trabalho\Space Shuttle\Slide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Proprietário-de-HP\Ambiente de trabalho\Space Shuttle\Slide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Proprietário-de-HP\Ambiente de trabalho\Space Shuttle\Slide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Proprietário-de-HP\Ambiente de trabalho\Space Shuttle\Slide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Proprietário-de-HP\Ambiente de trabalho\Space Shuttle\Slide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Proprietário-de-HP\Ambiente de trabalho\Space Shuttle\Slide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Proprietário-de-HP\Ambiente de trabalho\Space Shuttle\Slide3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Proprietário-de-HP\Ambiente de trabalho\Space Shuttle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Proprietário-de-HP\Ambiente de trabalho\Space Shuttle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Proprietário-de-HP\Ambiente de trabalho\Space Shuttle\Slide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Proprietário-de-HP\Ambiente de trabalho\Space Shuttle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Proprietário-de-HP\Ambiente de trabalho\Space Shuttle\Slide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Proprietário-de-HP\Ambiente de trabalho\Space Shuttle\Slide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03:51Z</dcterms:created>
  <dc:creator>Proprietário-de-HP</dc:creator>
  <dc:description/>
  <dc:language>en-US</dc:language>
  <cp:lastModifiedBy>Ed Marzola</cp:lastModifiedBy>
  <dcterms:modified xsi:type="dcterms:W3CDTF">2009-01-13T01:22:46Z</dcterms:modified>
  <cp:revision>12</cp:revision>
  <dc:subject/>
  <dc:title>Slide 1</dc:title>
</cp:coreProperties>
</file>