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2001theme.wav" ContentType="audio/x-wav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7273-FBDC-42A2-ADE5-FEF688875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A7BF-0B74-49EB-96FA-FD136580B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7011-6C90-412D-B00F-22A0B9FA6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C31F-5111-4064-9EEC-E0300C002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853-0D61-48E8-A85C-E91466D32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A6D7-8FE3-4AA8-8430-7AA9F265A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282E-C26F-43F2-8F8D-70C612C2A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125F-E041-40EF-89BD-7376DDC9E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88A9-8528-4B34-8B64-2739D0AE1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E0572-802C-4339-B244-388F3B251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D920-34F4-42CE-9865-3EC395EB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5BD6-975F-4230-B0FB-3E11CB853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D9CBF-78A8-48E0-8EED-09B8EBD3C5F7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EE53-A229-4537-8868-FBCA3FAD8034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Proprietário-de-HP\Ambiente de trabalho\Space Shuttle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2001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Proprietário-de-HP\Ambiente de trabalho\Space Shuttle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Proprietário-de-HP\Ambiente de trabalho\Space Shuttle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Proprietário-de-HP\Ambiente de trabalho\Space Shuttle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Proprietário-de-HP\Ambiente de trabalho\Space Shuttle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Proprietário-de-HP\Ambiente de trabalho\Space Shuttle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14376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kes Michigan, Huron &amp; 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Proprietário-de-HP\Ambiente de trabalho\Space Shuttle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357960" y="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lorida and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Proprietário-de-HP\Ambiente de trabalho\Space Shuttle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739040" y="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alibri"/>
              </a:rPr>
              <a:t>Nile River delta, Red Sea and 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Proprietário-de-HP\Ambiente de trabalho\Space Shuttle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Proprietário-de-HP\Ambiente de trabalho\Space Shuttle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Proprietário-de-HP\Ambiente de trabalho\Space Shuttle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Proprietário-de-HP\Ambiente de trabalho\Space Shuttle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Proprietário-de-HP\Ambiente de trabalho\Space Shuttle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Proprietário-de-HP\Ambiente de trabalho\Space Shuttle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Proprietário-de-HP\Ambiente de trabalho\Space Shuttle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Proprietário-de-HP\Ambiente de trabalho\Space Shuttle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Proprietário-de-HP\Ambiente de trabalho\Space Shuttle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Proprietário-de-HP\Ambiente de trabalho\Space Shuttle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Proprietário-de-HP\Ambiente de trabalho\Space Shuttle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Proprietário-de-HP\Ambiente de trabalho\Space Shuttle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Proprietário-de-HP\Ambiente de trabalho\Space Shuttle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Proprietário-de-HP\Ambiente de trabalho\Space Shuttle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Proprietário-de-HP\Ambiente de trabalho\Space Shuttle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Proprietário-de-HP\Ambiente de trabalho\Space Shuttle\Slide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Proprietário-de-HP\Ambiente de trabalho\Space Shuttle\Slide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Proprietário-de-HP\Ambiente de trabalho\Space Shuttle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Proprietário-de-HP\Ambiente de trabalho\Space Shuttle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Proprietário-de-HP\Ambiente de trabalho\Space Shuttle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Proprietário-de-HP\Ambiente de trabalho\Space Shuttle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Proprietário-de-HP\Ambiente de trabalho\Space Shuttle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Proprietário-de-HP\Ambiente de trabalho\Space Shuttle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03:51Z</dcterms:created>
  <dc:creator>Proprietário-de-HP</dc:creator>
  <dc:description/>
  <dc:language>en-US</dc:language>
  <cp:lastModifiedBy>Ed Marzola</cp:lastModifiedBy>
  <dcterms:modified xsi:type="dcterms:W3CDTF">2009-01-13T01:22:46Z</dcterms:modified>
  <cp:revision>12</cp:revision>
  <dc:subject/>
  <dc:title>Slide 1</dc:title>
</cp:coreProperties>
</file>