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5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7.jpeg" ContentType="image/jpeg"/>
  <Override PartName="/ppt/media/image38.jpeg" ContentType="image/jpeg"/>
  <Override PartName="/ppt/media/image46.png" ContentType="image/png"/>
  <Override PartName="/ppt/media/image30.jpeg" ContentType="image/jpeg"/>
  <Override PartName="/ppt/media/image47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4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2F76-D9FD-43C2-A4F8-2A287932A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3073-34D9-41C7-988A-86501A86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C00B-D984-4C39-A6A7-C873E3772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319B-EDE8-49F1-98B2-459D61437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4198-8890-43AC-B056-0CBA4C82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9039-11BA-4E15-BA75-DD1FB2BF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537E-22F5-42EB-B43F-4DB34F85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CC22-5239-456B-8FBA-1ECBCB7E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CCA3-3949-4B30-BF7A-112CD3B8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5BCE-E309-4EA8-966D-05474221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7F4B-F253-47F1-920A-D48CBAB7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DE52-86EE-4B53-98DE-16E9C81B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0470-CC01-4E79-992E-DFFE5F186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143000"/>
            <a:ext cx="9144000" cy="25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FifthAve"/>
              </a:rPr>
              <a:t>SHUTTLE PROCESS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FifthAve"/>
              </a:rPr>
              <a:t>(Before Flight Activities Rarely Seen           By The General Publi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1911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FifthAve"/>
              </a:rPr>
              <a:t>DISCOVER --- DISCOVE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9280" y="17622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fting T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1906560"/>
            <a:ext cx="205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lid Ro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e Atta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9150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2050920"/>
            <a:ext cx="1979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gine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ttach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l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5280" y="5867280"/>
            <a:ext cx="82090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gines Are Attached To The Shuttle In The Shuttle Processing Fac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2498" t="0" r="500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14600" y="624060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uttle In Sling Ready For Lift In V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609480"/>
            <a:ext cx="277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uttle Has B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ved To VAB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Will Be Atta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 External T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1280" y="566100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al Tank Arrives by Barge from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79280" y="4665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uttle is Atta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5904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969840"/>
            <a:ext cx="2340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yload Preparation Room (PP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140360" y="2276640"/>
            <a:ext cx="3671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go Package For I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195640" y="3213000"/>
            <a:ext cx="3671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Module For I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4593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77080" y="969840"/>
            <a:ext cx="22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yload Ready To Be Moved to The Launch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4593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538200"/>
            <a:ext cx="22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yload Carrier Leaves P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18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81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692360" y="5146560"/>
            <a:ext cx="4248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yload Being Moved To Launch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825480"/>
            <a:ext cx="21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fting Payload   Into Position For  Insertion Into  Discovery When  It Arrives At The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5292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476360" y="61545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uttle Discovery Leaves V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5529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529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82548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uttle &amp; Craw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49092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unch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0920" y="3716280"/>
            <a:ext cx="865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2338560"/>
            <a:ext cx="2195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ngth--- 3 ½  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--- 6-8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0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9640" y="565164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tical Assembl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32720" y="46418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al T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195640" y="39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awl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79280" y="82548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COVERY ARRIVES        AT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38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4356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9280" y="6825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ADY FOR   LAU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7200" y="2970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Have Lift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96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0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30200"/>
            <a:ext cx="234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ov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al T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om 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5280" y="64422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al Tank Enters V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1440" y="404640"/>
            <a:ext cx="9145440" cy="6078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63640" y="615456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al Tank in V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46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68360" y="593892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paring to Lift the Tank to 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15:20:35Z</dcterms:created>
  <dc:creator>zxmulassy050</dc:creator>
  <dc:description/>
  <dc:language>en-US</dc:language>
  <cp:lastModifiedBy>Hampton</cp:lastModifiedBy>
  <dcterms:modified xsi:type="dcterms:W3CDTF">2007-02-17T04:37:21Z</dcterms:modified>
  <cp:revision>29</cp:revision>
  <dc:subject/>
  <dc:title>Diapositive 1</dc:title>
</cp:coreProperties>
</file>