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45.jpeg" ContentType="image/jpeg"/>
  <Override PartName="/ppt/media/image11.jpeg" ContentType="image/jpe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43.jpeg" ContentType="image/jpeg"/>
  <Override PartName="/ppt/media/image7.jpeg" ContentType="image/jpeg"/>
  <Override PartName="/ppt/media/image38.jpeg" ContentType="image/jpeg"/>
  <Override PartName="/ppt/media/image46.png" ContentType="image/png"/>
  <Override PartName="/ppt/media/image30.jpeg" ContentType="image/jpeg"/>
  <Override PartName="/ppt/media/image47.jpeg" ContentType="image/jpeg"/>
  <Override PartName="/ppt/media/image44.png" ContentType="image/png"/>
  <Override PartName="/ppt/media/image40.jpeg" ContentType="image/jpeg"/>
  <Override PartName="/ppt/media/image1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48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BAF-9BEB-4A65-814A-051A24E49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78CD-568F-410A-A588-5769F1F9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A50C-7BD2-4F9F-9625-DFF34E0B1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AD95-167B-402B-AF27-24D19C94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89F-A773-42B3-A2BA-0CD368B0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283CB-187A-4529-A573-CA098906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8C6E-3AE5-4F2E-8671-8650DDA7E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57CA-0F04-4DA7-81BD-272CE086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3492-37FC-40ED-A272-E49ACEB4B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EEB8-0B2D-47D6-B41D-BF215E16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B4B-EE52-4C2C-AE36-D9A8FA5F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8805-329F-4CF5-985B-87BA9B12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17FE-51EF-43B0-A4C4-C0B14F56BB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1143000"/>
            <a:ext cx="9144000" cy="25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FifthAve"/>
              </a:rPr>
              <a:t>SHUTTLE PROCESS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FifthAve"/>
              </a:rPr>
              <a:t>(Before Flight Activities Rarely Seen           By The General Publi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41911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FifthAve"/>
              </a:rPr>
              <a:t>DISCOVER --- DISCOVER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9280" y="17622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ting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1906560"/>
            <a:ext cx="2050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id Rock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9150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2050920"/>
            <a:ext cx="1979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s 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ttached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i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95280" y="5867280"/>
            <a:ext cx="82090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s Are Attached To The Shuttle In The Shuttle Processin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2498" t="0" r="500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514600" y="6240600"/>
            <a:ext cx="487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In Sling Ready For Lift In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0" y="609480"/>
            <a:ext cx="27716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Has B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ved To VAB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Will Be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 External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11280" y="5661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 Arrives by Barge from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79280" y="46656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is Attac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969840"/>
            <a:ext cx="2340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Preparation Room (PP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140360" y="2276640"/>
            <a:ext cx="3671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go Package For 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195640" y="3213000"/>
            <a:ext cx="3671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Module For I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45932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877080" y="969840"/>
            <a:ext cx="22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Ready To Be Moved to The Launch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4593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538200"/>
            <a:ext cx="22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Carrier Leaves P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18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81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692360" y="5146560"/>
            <a:ext cx="42480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yload Being Moved To Launch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0" y="825480"/>
            <a:ext cx="21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fting Payload   Into Position For  Insertion Into  Discovery When  It Arrives At The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76360" y="615456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Discovery Leaves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4552920" cy="6858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5292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0" y="825480"/>
            <a:ext cx="22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uttle &amp; Craw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360" y="349092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unch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50920" y="3716280"/>
            <a:ext cx="86544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948360" y="2338560"/>
            <a:ext cx="21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IP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ngth--- 3 ½  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ime--- 6-8 hou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9640" y="565164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tical Assembly Buil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2720" y="4641840"/>
            <a:ext cx="20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2195640" y="3938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awler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572000" cy="68770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79280" y="825480"/>
            <a:ext cx="194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OVERY ARRIVES        AT P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4572000" cy="6877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54356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79280" y="68256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DY FOR   LA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" y="2970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Have Lift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96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06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330200"/>
            <a:ext cx="2340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om Carr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63360"/>
            <a:ext cx="9144000" cy="6794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95280" y="644220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 Enters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-1440" y="404640"/>
            <a:ext cx="9145440" cy="60786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763640" y="6154560"/>
            <a:ext cx="46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ternal Tank in VA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68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68360" y="593892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eparing to Lift the Tank to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3T15:20:35Z</dcterms:created>
  <dc:creator>zxmulassy050</dc:creator>
  <dc:description/>
  <dc:language>en-US</dc:language>
  <cp:lastModifiedBy>Hampton</cp:lastModifiedBy>
  <dcterms:modified xsi:type="dcterms:W3CDTF">2007-02-17T04:37:21Z</dcterms:modified>
  <cp:revision>29</cp:revision>
  <dc:subject/>
  <dc:title>Diapositive 1</dc:title>
</cp:coreProperties>
</file>