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FD4-E34E-4A11-8B21-D94DC178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D57-75EC-44E6-8FA5-7FF5ACF7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D05-A285-4096-BE5C-CCE7269F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CB2-D7A1-41A3-A738-A9EAD081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21D-87B8-4EDA-B741-35BB097D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A49-1137-4100-9033-6CEF80D5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614-04AA-41B7-AFCD-3D4C79B9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6F6-F289-41BD-8E0E-8B136370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320-8E88-4628-A9A1-D4D4743A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F35-8FD7-429F-8DAC-83DD5402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B9E-1D43-404E-B889-28C5C27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4CB-175F-49E9-8534-E348C19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F4AE-E426-4AB2-A6AE-D1E0C42BA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91440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SHUTTLE PROCES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Before Flight Activities Rarely Seen           By The General Publ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91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ISCOVER ---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7622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0656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 R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50920"/>
            <a:ext cx="19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ach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5867280"/>
            <a:ext cx="820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Attached To The Shuttle In The Shuttle Processin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6240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n Sling Ready For Lift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480"/>
            <a:ext cx="277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Has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ed To VAB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Will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Arrives by Barge from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665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s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69840"/>
            <a:ext cx="23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Preparation Room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40360" y="227664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go Packag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Modul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77080" y="96984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Ready To Be Moved to The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Carrier Leaves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5146560"/>
            <a:ext cx="424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Being Moved To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825480"/>
            <a:ext cx="21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Payload   Into Position For  Insertion Into  Discovery When  It Arrives At The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Discovery Leave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8254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&amp; C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4909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38560"/>
            <a:ext cx="21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--- 3 ½ 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-- 6-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Assembl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wl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8254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VERY ARRIVES        A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Y FOR  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97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Lif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3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Enter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1545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5938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ing to Lift the Tank 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Hampton</cp:lastModifiedBy>
  <dcterms:modified xsi:type="dcterms:W3CDTF">2007-02-17T04:37:21Z</dcterms:modified>
  <cp:revision>29</cp:revision>
  <dc:subject/>
  <dc:title>Diapositive 1</dc:title>
</cp:coreProperties>
</file>