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893E-AFC9-4459-9673-8EE92E3AF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9297-1966-4F94-94E7-0189FF7E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C58A-7861-455E-9E0D-7BF633A1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0716-21FE-4775-86CE-070791B9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D9495-7EE3-42B2-B9A7-B82A30F6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5529-978F-4040-A020-E75F573AA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C889-B8B1-4A2D-A836-27014327B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3694-398D-48E7-A319-90E4A3919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4D8C-ED2C-42F9-90B7-8FF1BB17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9538-3BD8-4BFF-8644-7B4399B0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D3142-6ABE-4DB8-ADC1-66C8DF9CA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1783-BF9E-44A1-A1D9-728F8F31D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4196-AEC6-4AF4-B898-5DF36DF65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Hampton</cp:lastModifiedBy>
  <dcterms:modified xsi:type="dcterms:W3CDTF">2007-02-17T04:37:21Z</dcterms:modified>
  <cp:revision>29</cp:revision>
  <dc:subject/>
  <dc:title>Diapositive 1</dc:title>
</cp:coreProperties>
</file>